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B424-375A-4DEC-B478-33B9D74AD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AF36-9B78-4296-9551-3381E513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46E8-8842-4DE6-83A6-E0A0F6977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8895-0C42-478D-B58A-CBE10EE16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10AF-A097-412A-AB76-48654D923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37B9-628D-4CCA-B092-E8F3E332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06E8-7E27-4DE5-8045-6E9B1F63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613F-225B-46E7-8E68-6C821F1C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61AD-1714-4BE6-946B-8FEB3FDC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45A7-EB99-4495-86F5-A2E0E8E3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93CB-56A4-4D08-AA48-1C13D667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C8C1-5FBC-420D-BBB1-8D9A97B0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718C-DC32-454F-A6CC-424EBD98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4AE5-C8F2-4685-BBA2-CCCD308F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5ECA-6AE1-4416-955E-1E70E30E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66E3-F25C-4FAC-93D7-DDC37496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FDCE-74B2-41BF-9277-CFA54565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23E2-ECC8-461A-B08F-D2A8C399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4623-BD00-49E4-B846-46697132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CCA3-F8DB-4C05-B365-715BAB1F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CE51-77C2-4076-9FCE-99053ED3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DCB3-157E-42F6-9090-9DF239AF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84B9-5288-4141-B169-C1B8B6D5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8533-F447-4E7C-83B3-AC9475B7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5DB9-0516-4CC6-8088-386A744435B6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7DA6-FA98-402D-8187-C2459C6215A3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ahoma"/>
              </a:rPr>
              <a:t>D</a:t>
            </a: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Ė</a:t>
            </a:r>
            <a:r>
              <a:rPr b="0" lang="en-US" sz="4400" spc="-1" strike="noStrike">
                <a:solidFill>
                  <a:srgbClr val="330033"/>
                </a:solidFill>
                <a:latin typeface="Tahoma"/>
              </a:rPr>
              <a:t>MESYS</a:t>
            </a: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 ir ATMINTIS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Užmiršimas priklauso nuo: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Įsiminimo tvirtu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Užmiršimą skatinančių veiksni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Laikomos informacijos panaudojimo praktinėje veikloje: kuo mažiau naudojame, tuo greičiau užmirštam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Interferencija (proaktyvioji/retroaktyvioji) - informacijos persidengimas, susimaišym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Kartojimo stok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Situacij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Nuostatos pasikeiti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Smegenų pažeidima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agal informacijos laikymo trukmę atmintis skirstoma į: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Jutiminę/sensoninę atmintį (SA)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Trumpalaikę atmintį (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Ilgalaikę atmintį (IA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ATMIN</a:t>
            </a:r>
            <a:r>
              <a:rPr b="0" lang="en-US" sz="3800" spc="-1" strike="noStrike">
                <a:solidFill>
                  <a:srgbClr val="330033"/>
                </a:solidFill>
                <a:latin typeface="Tahoma"/>
              </a:rPr>
              <a:t>ties gerini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48392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edžiagos dalinimas prasminiais gabal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smeninės prasmės suteikimas - vaizduotės pasitelkimas (asociacij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edžiagos nagrinėj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ktyvus kartoj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ikslin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onteksto reikšmė (tos pačios aplinkybė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edžiagos organizav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aktikavimasis (atsimini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nterferencijos mažin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QRST metodas (medžiagos peržiūrėjimas, klausimai, skaitymas, pakartojimas sa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testa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n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ija – vis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škas ar dalinis atminties prarad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etaatmintis – savo paties atminties sistemos žinojim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DĖMESYS 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Dėmesy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— savitas individo nervų sistemos mechanizmas, užtikrinantis jam efektyvų psichinės veiklos organizuotum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Dėmesys – tai procesas, kuris leidžia išskirti objektus ar stimulus iš daugelio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Dėmesio objekta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– tai, į ką sutelktas dėmes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Dėmesio fona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– tai, kas supa objekt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DĖMESIO VEIKSNIAI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- veiksniai, kurie skatina ar slopina dėmes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šoriniai: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timulų intensyvu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auju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palvinu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truktūrišku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diniai: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asmenybės kryptingumas (poreikiai, interesai) ir su juo susiję veiklos tikslai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DĖMESIO RŪŠY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al išankstinį dėmesio krypties pasirinkimą: </a:t>
            </a: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nevalingas, valingas, savaimin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al platumą: </a:t>
            </a: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selektyvus ir paskirsty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Dėmesio savybė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ntensyvumas/koncentracija &lt; &gt; svyravimas, išsek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tvar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ėmesio apim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ėmesio paskirsty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ėmesio perkėlimas &lt; &gt; klamp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ėmesing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ATMINTI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mintis – tai sugebėjimas įsiminti, laikyti ir po kiek laiko atgaminti gautą informacij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minties procesai: įsiminimas, saugojimas, atsiminimas. Užmiršim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Įsiminima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- tai užkodavimas, suteikiant gautai informacijai formą ir įvedimas į atmint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Nevalingas (automatiška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Valing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Mechaninis arba prasminis/semantin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Vaizdiniai (regimasis kodavima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nformacijos sutvarkym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UŽMIRŠI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ai atminties procesas, dėl kurio suvoktos ir užkoduotos informacijos negalime prisimint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H.Ebbinghauso užmiršimo kreivė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6842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8:49:57Z</dcterms:created>
  <dc:creator>TADAS</dc:creator>
  <dc:description/>
  <dc:language>en-US</dc:language>
  <cp:lastModifiedBy> </cp:lastModifiedBy>
  <dcterms:modified xsi:type="dcterms:W3CDTF">2007-10-24T20:22:40Z</dcterms:modified>
  <cp:revision>14</cp:revision>
  <dc:subject/>
  <dc:title>ATMINTIS IR DĖMESYS</dc:title>
</cp:coreProperties>
</file>